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1BA4A-1DE3-4B08-A302-834E093BF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E6FE0-00DB-4ACD-B41F-36FF49688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2EBCC-4586-4D71-B7ED-0EB78337A9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BAAFE-F8D2-4BF8-9F2B-66486F2A95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DCACF-27B3-4AAB-8CE7-052C961CB2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84C19-9A99-4B6E-A2FA-47A0895E9F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28ECC-574B-4059-9394-208C849BFC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E55F8-18CA-4A85-B195-C50755C1DC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838080"/>
            <a:ext cx="82296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BCD04-56D4-4275-ABE7-937797965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14ED6-9BE8-4407-8502-35687BA9E5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AA407-4A53-4A98-9600-3D5F70CE33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D65EB-AF8B-453D-8683-59DFF0E19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590920" y="6324120"/>
            <a:ext cx="1295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3399"/>
                </a:solidFill>
                <a:latin typeface="D ITCKabel 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D ITCKabel Demi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458200" y="6324120"/>
            <a:ext cx="533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3399"/>
                </a:solidFill>
                <a:latin typeface="D ITCKabel 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F190-E0B7-46B4-8E1F-8E5EC7D8E154}" type="slidenum">
              <a:rPr b="1" lang="en-US" sz="1000" spc="-1" strike="noStrike">
                <a:solidFill>
                  <a:srgbClr val="003399"/>
                </a:solidFill>
                <a:latin typeface="D ITCKabel Demi"/>
              </a:rPr>
              <a:t>&lt;number&gt;</a:t>
            </a:fld>
            <a:r>
              <a:rPr b="1" lang="en-US" sz="1000" spc="-1" strike="noStrike">
                <a:solidFill>
                  <a:srgbClr val="003399"/>
                </a:solidFill>
                <a:latin typeface="D ITCKabel Demi"/>
              </a:rPr>
              <a:t>/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289080" indent="-289080">
              <a:spcBef>
                <a:spcPts val="876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289080" indent="-289080">
              <a:spcBef>
                <a:spcPts val="876"/>
              </a:spcBef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289080" indent="-289080">
              <a:spcBef>
                <a:spcPts val="876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89080" indent="-289080">
              <a:spcBef>
                <a:spcPts val="876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89080" indent="-289080">
              <a:spcBef>
                <a:spcPts val="876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89080" indent="-289080">
              <a:spcBef>
                <a:spcPts val="876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28600" y="17524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ROCM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28600" y="3505320"/>
            <a:ext cx="86104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Mike McKay, CCN-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avid Gunter CCN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http://public.lanl.gov/proc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1055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gust 11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4382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Verdana"/>
              </a:rPr>
              <a:t>Process Mon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nswer the question: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03399"/>
                </a:solidFill>
                <a:latin typeface="Century Gothic"/>
              </a:rPr>
              <a:t>How close am I to running out of memory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?”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751"/>
              </a:spcBef>
              <a:buClr>
                <a:srgbClr val="29881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881c"/>
                </a:solidFill>
                <a:latin typeface="Century Gothic"/>
              </a:rPr>
              <a:t>Start with top/ps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857160" indent="-399960">
              <a:spcBef>
                <a:spcPts val="524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Gothic"/>
              </a:rPr>
              <a:t>Users familiar with fields: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entury Gothic"/>
              </a:rPr>
              <a:t> free memory, process RSS, % CPU, …</a:t>
            </a: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lvl="1" marL="857160" indent="-399960">
              <a:spcBef>
                <a:spcPts val="524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Gothic"/>
              </a:rPr>
              <a:t>Access to source - do what they do - periodic sampling</a:t>
            </a: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751"/>
              </a:spcBef>
              <a:buClr>
                <a:srgbClr val="29881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881c"/>
                </a:solidFill>
                <a:latin typeface="Century Gothic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857160" indent="-399960">
              <a:spcBef>
                <a:spcPts val="524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Gothic"/>
              </a:rPr>
              <a:t>Functions callable within code</a:t>
            </a: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lvl="1" marL="857160" indent="-399960">
              <a:spcBef>
                <a:spcPts val="524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Gothic"/>
              </a:rPr>
              <a:t>Time-based results saved to file for processing/plotting</a:t>
            </a: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62508-0A41-4270-A46F-AAC8E4CF72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4592520" cy="6172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035680" y="689400"/>
            <a:ext cx="3686040" cy="131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 Process Run OSF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 0 lea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pling sent to f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t processed/plot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9360" y="3352680"/>
            <a:ext cx="368604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tantaneous CPU 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21480" y="5486400"/>
            <a:ext cx="2009520" cy="703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ss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E 0 Lea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16560" y="2209680"/>
            <a:ext cx="277164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verall CPU 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54800" y="4495680"/>
            <a:ext cx="429552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cent Machine Free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451560"/>
            <a:ext cx="29718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p Now! 20%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30560" y="6451560"/>
            <a:ext cx="353340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lloc Fails! 10%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752480" y="5105520"/>
            <a:ext cx="0" cy="137160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752480" y="3962520"/>
            <a:ext cx="0" cy="137160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752480" y="2057400"/>
            <a:ext cx="0" cy="190512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657600" y="5181120"/>
            <a:ext cx="304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3962160" y="5562720"/>
            <a:ext cx="1981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181120" y="2438280"/>
            <a:ext cx="2286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723920" y="3581280"/>
            <a:ext cx="2286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486040" y="5867280"/>
            <a:ext cx="2286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19360" y="4724280"/>
            <a:ext cx="2286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B2D5C-565D-4371-9F75-A843331002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ge - 4 W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tandalone (like ps)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569880" indent="-112680">
              <a:lnSpc>
                <a:spcPct val="100000"/>
              </a:lnSpc>
              <a:spcBef>
                <a:spcPts val="624"/>
              </a:spcBef>
              <a:buClr>
                <a:srgbClr val="29881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9881c"/>
                </a:solidFill>
                <a:latin typeface="Courier New"/>
              </a:rPr>
              <a:t>procmon -time 1000 myexec</a:t>
            </a:r>
            <a:endParaRPr b="1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89080" indent="-289080"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untime Linker Environment Variable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569880" indent="-112680">
              <a:lnSpc>
                <a:spcPct val="100000"/>
              </a:lnSpc>
              <a:spcBef>
                <a:spcPts val="499"/>
              </a:spcBef>
              <a:buClr>
                <a:srgbClr val="29881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881c"/>
                </a:solidFill>
                <a:latin typeface="Courier New"/>
              </a:rPr>
              <a:t>setenv _RLD_LIST /lib/libprocmon_rld.so:DEFAULT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89080" indent="-289080"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ink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569880" indent="-112680">
              <a:lnSpc>
                <a:spcPct val="100000"/>
              </a:lnSpc>
              <a:spcBef>
                <a:spcPts val="624"/>
              </a:spcBef>
              <a:buClr>
                <a:srgbClr val="29881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9881c"/>
                </a:solidFill>
                <a:latin typeface="Courier New"/>
              </a:rPr>
              <a:t>cc foo.c -lprocmon_rld.so</a:t>
            </a:r>
            <a:endParaRPr b="1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89080" indent="-289080"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nual Instrumentation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569880" indent="-112680">
              <a:lnSpc>
                <a:spcPct val="100000"/>
              </a:lnSpc>
              <a:spcBef>
                <a:spcPts val="624"/>
              </a:spcBef>
              <a:buClr>
                <a:srgbClr val="29881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9881c"/>
                </a:solidFill>
                <a:latin typeface="Courier New"/>
              </a:rPr>
              <a:t>PROCMON_info_get( 0, pinfo );</a:t>
            </a:r>
            <a:endParaRPr b="1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89080" indent="-289080"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nvironment variables (eg sampling rate)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"/>
          <p:cNvSpPr/>
          <p:nvPr/>
        </p:nvSpPr>
        <p:spPr>
          <a:xfrm>
            <a:off x="5264280" y="1447920"/>
            <a:ext cx="292392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pling Rate (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6560" y="4495680"/>
            <a:ext cx="353340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containing 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495320" y="167652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866920" y="48769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0FCAF-F16A-4E0F-BC3A-9AB477CF45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</a:t>
            </a:r>
            <a:r>
              <a:rPr b="1" lang="en-US" sz="2400" spc="-1" strike="noStrike">
                <a:solidFill>
                  <a:srgbClr val="29881c"/>
                </a:solidFill>
                <a:latin typeface="Arial"/>
              </a:rPr>
              <a:t>Pro’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’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876"/>
              </a:spcBef>
              <a:buClr>
                <a:srgbClr val="29881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881c"/>
                </a:solidFill>
                <a:latin typeface="Century Gothic"/>
              </a:rPr>
              <a:t>Pro’s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569880" indent="-1126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entury Gothic"/>
              </a:rPr>
              <a:t>Portable to Unix platform where top/ps ported</a:t>
            </a:r>
            <a:endParaRPr b="1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orted to AIX, IRIX, Linux, OSF1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180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Century Gothic"/>
              </a:rPr>
              <a:t>http://public.lanl.gov/procmon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569880" indent="-1126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entury Gothic"/>
              </a:rPr>
              <a:t>Can set sampling rate to reduce overhead</a:t>
            </a:r>
            <a:endParaRPr b="1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89080" indent="-28908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Con’s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569880" indent="-1126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entury Gothic"/>
              </a:rPr>
              <a:t>Text file output - can get large</a:t>
            </a:r>
            <a:endParaRPr b="1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lvl="1" marL="569880" indent="-1126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entury Gothic"/>
              </a:rPr>
              <a:t>Gives general overview…need to instrument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entury Gothic"/>
              </a:rPr>
              <a:t>manually to match source with process size increases</a:t>
            </a:r>
            <a:endParaRPr b="1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3CCFF-9C16-49CB-B9E8-DCA30AA95C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6T16:42:17Z</dcterms:created>
  <dc:creator>IM-1</dc:creator>
  <dc:description/>
  <dc:language>en-US</dc:language>
  <cp:lastModifiedBy>User Admin</cp:lastModifiedBy>
  <dcterms:modified xsi:type="dcterms:W3CDTF">2005-08-12T02:04:27Z</dcterms:modified>
  <cp:revision>38</cp:revision>
  <dc:subject/>
  <dc:title>No Slide Title</dc:title>
</cp:coreProperties>
</file>