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DFB2-530A-408F-85F4-74CA5FB7A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6D4C-3133-4D74-B896-61DB7F797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F07C-CD22-4099-BEDE-3B30079B5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D479-1C2C-49F3-83FB-EF40BF0F45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798F-79BD-4033-92F0-89374967CE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2D23-7811-4D28-BC51-C612C5356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A9C3-9D00-4C38-A9DC-12FFD725C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FF9C-AACD-432F-A2F0-3DA86D9C5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0AD1-F8A2-4833-82B5-2D64DB650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2884-E40A-4873-AA9D-B56907210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6977-92DD-401F-BF8D-A300BEA9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6687-CBAA-488F-BFC2-AB895274E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920" y="6324120"/>
            <a:ext cx="1295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99"/>
                </a:solidFill>
                <a:latin typeface="D ITCKabel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458200" y="6324120"/>
            <a:ext cx="533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99"/>
                </a:solidFill>
                <a:latin typeface="D ITCKabel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EF5-931B-4CBB-A5F6-EDEC3EF73475}" type="slidenum"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&lt;number&gt;</a:t>
            </a:fld>
            <a:r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289080" indent="-289080">
              <a:spcBef>
                <a:spcPts val="876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289080" indent="-289080">
              <a:spcBef>
                <a:spcPts val="876"/>
              </a:spcBef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289080" indent="-289080"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1752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CM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3505320"/>
            <a:ext cx="8610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Mike McKay, CCN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vid Gunter CCN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ttp://public.lanl.gov/proc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055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11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438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Process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swer the question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Century Gothic"/>
              </a:rPr>
              <a:t>How close am I to running out of memory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?”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751"/>
              </a:spcBef>
              <a:buClr>
                <a:srgbClr val="29881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881c"/>
                </a:solidFill>
                <a:latin typeface="Century Gothic"/>
              </a:rPr>
              <a:t>Start with top/ps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Users familiar with fields: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 free memory, process RSS, % CPU, …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Access to source - do what they do - periodic sampl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751"/>
              </a:spcBef>
              <a:buClr>
                <a:srgbClr val="29881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881c"/>
                </a:solidFill>
                <a:latin typeface="Century Gothic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Functions callable within code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Time-based results saved to file for processing/plott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79D4-297C-424B-A107-A49AE156F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59252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35680" y="689400"/>
            <a:ext cx="368604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Process Run OSF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 0 lea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ing sent to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 processed/plo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9360" y="3352680"/>
            <a:ext cx="368604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taneous CPU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21480" y="5486400"/>
            <a:ext cx="2009520" cy="703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E 0 Lea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6560" y="2209680"/>
            <a:ext cx="277164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all CPU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54800" y="4495680"/>
            <a:ext cx="42955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cent Machine Fre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51560"/>
            <a:ext cx="29718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p Now! 20%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0560" y="6451560"/>
            <a:ext cx="353340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 Fails! 10%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52480" y="5105520"/>
            <a:ext cx="0" cy="13716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752480" y="3962520"/>
            <a:ext cx="0" cy="13716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52480" y="2057400"/>
            <a:ext cx="0" cy="19051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57600" y="5181120"/>
            <a:ext cx="30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962160" y="556272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181120" y="2438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3920" y="3581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486040" y="5867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19360" y="4724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D625-F25B-4775-805E-46B6F271C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- 4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ndalone (like ps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procmon -time 1000 myexec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untime Linker Environment Variabl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499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881c"/>
                </a:solidFill>
                <a:latin typeface="Courier New"/>
              </a:rPr>
              <a:t>setenv _RLD_LIST /lib/libprocmon_rld.so:DEFAUL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cc foo.c -lprocmon_rld.so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ual Instrumentat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PROCMON_info_get( 0, pinfo );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vironment variables (eg sampling rate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5264280" y="1447920"/>
            <a:ext cx="29239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ing Rate (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6560" y="4495680"/>
            <a:ext cx="353340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ntaining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5320" y="16765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48769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FFA1-7C6A-4268-ACF6-0D1A60E53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US" sz="2400" spc="-1" strike="noStrike">
                <a:solidFill>
                  <a:srgbClr val="29881c"/>
                </a:solidFill>
                <a:latin typeface="Arial"/>
              </a:rPr>
              <a:t>Pro’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876"/>
              </a:spcBef>
              <a:buClr>
                <a:srgbClr val="29881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881c"/>
                </a:solidFill>
                <a:latin typeface="Century Gothic"/>
              </a:rPr>
              <a:t>Pro’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Portable to Unix platform where top/ps ported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rted to AIX, IRIX, Linux, OSF1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18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Century Gothic"/>
              </a:rPr>
              <a:t>http://public.lanl.gov/procm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Can set sampling rate to reduce overhead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Con’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Text file output - can get large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Gives general overview…need to instrumen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manually to match source with process size increases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D279-4A72-4FB9-989F-8D1AB3A805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6:42:17Z</dcterms:created>
  <dc:creator>IM-1</dc:creator>
  <dc:description/>
  <dc:language>en-US</dc:language>
  <cp:lastModifiedBy>User Admin</cp:lastModifiedBy>
  <dcterms:modified xsi:type="dcterms:W3CDTF">2005-08-12T02:04:27Z</dcterms:modified>
  <cp:revision>38</cp:revision>
  <dc:subject/>
  <dc:title>No Slide Title</dc:title>
</cp:coreProperties>
</file>