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9FC4-DECF-4322-8BE6-ABB0FCCE0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F92E-2A6B-4C3B-AFE5-C53C65EB1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9526-3806-4A92-959E-6F988E5BF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86D8A-937A-4222-BE2D-17E1AD920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8D752-7040-4FB8-AC5A-7295376DFB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F66A-3B08-4C74-9444-71BC50FA2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7E27-99A4-4F30-AC38-9022083DE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F1F2C-E193-4455-8E86-05A34DA0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695A-D6CC-4BA3-BA8E-19EC597BD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52F1-DA34-45DF-A58E-B546AE429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AFDF5-97A5-40C3-B4E7-0D510E411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21C5-8731-45EE-B43B-93424E160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590920" y="6324120"/>
            <a:ext cx="1295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458200" y="6324120"/>
            <a:ext cx="533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99"/>
                </a:solidFill>
                <a:latin typeface="D ITCKabel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A02-7CAE-48B9-82ED-E2E7982E1902}" type="slidenum"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&lt;number&gt;</a:t>
            </a:fld>
            <a:r>
              <a:rPr b="1" lang="en-US" sz="1000" spc="-1" strike="noStrike">
                <a:solidFill>
                  <a:srgbClr val="003399"/>
                </a:solidFill>
                <a:latin typeface="D ITCKabel Demi"/>
              </a:rPr>
              <a:t>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289080" indent="-289080">
              <a:spcBef>
                <a:spcPts val="876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289080" indent="-289080">
              <a:spcBef>
                <a:spcPts val="876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289080" indent="-289080">
              <a:spcBef>
                <a:spcPts val="876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752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CM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" y="350532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Mike McKay, CCN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vid Gunter CCN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tp://public.lanl.gov/proc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055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gust 11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438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Process Mon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swer the question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Century Gothic"/>
              </a:rPr>
              <a:t>How close am I to running out of memory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?”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Start with top/ps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Users familiar with fields: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 free memory, process RSS, % CPU, …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Access to source - do what they do - periodic sampl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751"/>
              </a:spcBef>
              <a:buClr>
                <a:srgbClr val="29881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881c"/>
                </a:solidFill>
                <a:latin typeface="Century Gothic"/>
              </a:rPr>
              <a:t>Add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Functions callable within code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lvl="1" marL="857160" indent="-399960">
              <a:spcBef>
                <a:spcPts val="5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Time-based results saved to file for processing/plotting</a:t>
            </a: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A2984-11A2-4A98-8805-3D7BE0C98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592520" cy="617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35680" y="689400"/>
            <a:ext cx="368604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Process Run OSF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 0 lea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sent to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t processed/plo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9360" y="3352680"/>
            <a:ext cx="36860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tantaneous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21480" y="5486400"/>
            <a:ext cx="2009520" cy="703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E 0 Lea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6560" y="2209680"/>
            <a:ext cx="277164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all CPU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4800" y="4495680"/>
            <a:ext cx="42955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cent Machine Fre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51560"/>
            <a:ext cx="29718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p Now! 2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30560" y="6451560"/>
            <a:ext cx="353340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 Fails! 10%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52480" y="5105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752480" y="3962520"/>
            <a:ext cx="0" cy="137160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52480" y="2057400"/>
            <a:ext cx="0" cy="190512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57600" y="5181120"/>
            <a:ext cx="304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3962160" y="556272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81120" y="2438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3920" y="3581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486040" y="5867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19360" y="4724280"/>
            <a:ext cx="2286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5FA7-57E5-4ABE-8B8C-33884A002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- 4 W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lone (like ps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 -time 1000 myexec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untime Linker Environment Variabl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499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881c"/>
                </a:solidFill>
                <a:latin typeface="Courier New"/>
              </a:rPr>
              <a:t>setenv _RLD_LIST /lib/libprocmon_rld.so:DEFAUL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ink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cc foo.c -lprocmon_rld.so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ual Instrument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100000"/>
              </a:lnSpc>
              <a:spcBef>
                <a:spcPts val="624"/>
              </a:spcBef>
              <a:buClr>
                <a:srgbClr val="29881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881c"/>
                </a:solidFill>
                <a:latin typeface="Courier New"/>
              </a:rPr>
              <a:t>PROCMON_info_get( 0, pinfo );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vironment variables (eg sampling rate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"/>
          <p:cNvSpPr/>
          <p:nvPr/>
        </p:nvSpPr>
        <p:spPr>
          <a:xfrm>
            <a:off x="5264280" y="1447920"/>
            <a:ext cx="292392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ing Rate (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6560" y="4495680"/>
            <a:ext cx="3533400" cy="398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containing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5320" y="16765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66920" y="48769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09DD-0F1C-4759-A314-C90FA84DB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2400" spc="-1" strike="noStrike">
                <a:solidFill>
                  <a:srgbClr val="29881c"/>
                </a:solidFill>
                <a:latin typeface="Arial"/>
              </a:rPr>
              <a:t>Pro’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29881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881c"/>
                </a:solidFill>
                <a:latin typeface="Century Gothic"/>
              </a:rPr>
              <a:t>Pro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Portable to Unix platform where top/ps porte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orted to AIX, IRIX, Linux, OSF1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858960" indent="-18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Century Gothic"/>
              </a:rPr>
              <a:t>http://public.lanl.gov/procm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Can set sampling rate to reduce overhead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89080" indent="-28908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Con’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Text file output - can get large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lvl="1" marL="569880" indent="-112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Gives general overview…need to instrumen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entury Gothic"/>
              </a:rPr>
              <a:t>manually to match source with process size increases</a:t>
            </a:r>
            <a:endParaRPr b="1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0291-B26A-4477-ADC9-5CE9F6CEB8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6:42:17Z</dcterms:created>
  <dc:creator>IM-1</dc:creator>
  <dc:description/>
  <dc:language>en-US</dc:language>
  <cp:lastModifiedBy>User Admin</cp:lastModifiedBy>
  <dcterms:modified xsi:type="dcterms:W3CDTF">2005-08-12T02:04:27Z</dcterms:modified>
  <cp:revision>38</cp:revision>
  <dc:subject/>
  <dc:title>No Slide Title</dc:title>
</cp:coreProperties>
</file>